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F59-1686-4ED8-BC3E-147E72C1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10A-A5DB-4D2C-BA5C-6C311791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9EA-C4A3-404B-B02A-7EE93F03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CD6-5D42-4D85-B39D-8517E442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9E0-0482-4E40-A984-4D9E39BC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837-360A-4547-A3DC-B1240C8E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48C-62BD-4FA3-AC19-1F95925B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9DA-60AE-4ACE-B782-6E592688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431-0715-410C-B8A6-139588EC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097-DA82-44B7-ABDF-0CA684E1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42C-121C-47CA-A059-BB824B6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6B3-4232-445B-9120-DF9B09C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B746-528D-4EC2-9676-C68BBC7F2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.treehugger.com/images/2007/10/24/smoke%2520stack-jj-001.jpg&amp;imgrefurl=http://www.treehugger.com/files/2007/06/wow_is_right.php&amp;usg=__SXOZrso1I54GPkBy5wtE4-x5WFY=&amp;h=369&amp;w=464&amp;sz=19&amp;hl=en&amp;start=6&amp;zoom=1&amp;itbs=1&amp;tbnid=IsSMY6Z13yTW9M:&amp;tbnh=102&amp;tbnw=128&amp;prev=/images%3Fq%3Dfactory%2Bsmoke%2Bpollution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2.bp.blogspot.com/_-z5CDZfrG4k/TOhB2FndOJI/AAAAAAAAAnc/CmrnLmEIAIk/s1600/siberian-tiger-6.jpg&amp;imgrefurl=http://siberiantiger1.blogspot.com/&amp;usg=__7olIJ2PM6SjUvYzLALbR8WMrAMo=&amp;h=718&amp;w=566&amp;sz=90&amp;hl=en&amp;start=3&amp;zoom=1&amp;itbs=1&amp;tbnid=z6vAmJ5RTujeiM:&amp;tbnh=140&amp;tbnw=110&amp;prev=/images%3Fq%3Dsiberian%2Btiger%26hl%3Den%26gbv%3D2%26tbs%3Disch: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www.treehugger.com/monk-seal.png&amp;imgrefurl=http://www.treehugger.com/files/2010/01/humans-now-wiping-out-species-1000-times-natural-rate.php&amp;usg=__1g8k40TmUm30cKEmXwzp8DxlLhE=&amp;h=480&amp;w=491&amp;sz=590&amp;hl=en&amp;start=6&amp;zoom=1&amp;itbs=1&amp;tbnid=g6YB6-IVwVegDM:&amp;tbnh=127&amp;tbnw=130&amp;prev=/images%3Fq%3Dmediterranean%2Bmonk%2Bseal%26hl%3Den%26gbv%3D2%26tbs%3Disch: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.academic.ru/pictures/dewiki/77/Microtus_pennsylvanicus.jpg&amp;imgrefurl=http://iran665.indo.cz.cc/microtus-multiplex.html&amp;usg=__Znl7Fz5-fxgzNLvTW8RyYQn52nc=&amp;h=201&amp;w=250&amp;sz=11&amp;hl=en&amp;start=4&amp;zoom=1&amp;itbs=1&amp;tbnid=IHb3wpAG9gawtM:&amp;tbnh=89&amp;tbnw=111&amp;prev=/images%3Fq%3DMuisk%2BVole%26hl%3Den%26sa%3DX%26gbv%3D2%26nfpr%3D1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99"/>
                </a:solidFill>
                <a:latin typeface="Arial"/>
              </a:rPr>
              <a:t>Enviro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3200400"/>
            <a:ext cx="815364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Y   S H A N N A N  K E N N E D Y   &amp;   M I A   H E A L 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ussia’s Environment Problems 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actories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 Russia Pollute the air with factories sm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 Russia when pipes age, they rust and break. Oil leaks through the surfaces causing disa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any people in Russia do not have clean faucet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05120"/>
            <a:ext cx="312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ff"/>
                </a:solidFill>
                <a:latin typeface="Arial"/>
              </a:rPr>
              <a:t>More Environment Problems </a:t>
            </a:r>
            <a:r>
              <a:rPr b="1" lang="en-US" sz="4400" spc="-1" strike="noStrike">
                <a:solidFill>
                  <a:srgbClr val="9966ff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ome Nuclear power plants in Russia are not sa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Acid rain kills plants, animals &amp; can damage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1 Billion $ lost every year to illegal log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urlz MT"/>
              </a:rPr>
              <a:t>Rivers in Russia….YU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ssia is one of the worst polluted plac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y fish, turtles, and ducks die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y people don’t have fresh water to drink &amp; swim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t a lot of people want to visit Russia because of the 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533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ussia’s Endangered Species </a:t>
            </a:r>
            <a:r>
              <a:rPr b="0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ur (Siberian) Tiger is the biggest of its kind. There are only about 450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rsk Vole is Critically endangered. And is VERY VERY close to exti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terranean Monk Seal is one of Russia/ Europe’s most endangered species. They live around the Black Sea,There are only about 500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88620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4061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Musk vole is very endangered, around 450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rangel Lemming is high risk of extinction. They are only found in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71600" y="609480"/>
            <a:ext cx="6496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re Endangered Spec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5880" y="403848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04:44Z</dcterms:created>
  <dc:creator> </dc:creator>
  <dc:description/>
  <dc:language>en-US</dc:language>
  <cp:lastModifiedBy> </cp:lastModifiedBy>
  <dcterms:modified xsi:type="dcterms:W3CDTF">2010-12-15T17:38:54Z</dcterms:modified>
  <cp:revision>3</cp:revision>
  <dc:subject/>
  <dc:title>        </dc:title>
</cp:coreProperties>
</file>